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move the slid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E4AB-7762-4D4F-A768-6572BBC2D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B640-7EF2-4428-BF0A-727A4C8EFF8E}" type="slidenum">
              <a:rPr b="0" lang="en-US" sz="1200" spc="-1" strike="noStrike">
                <a:solidFill>
                  <a:srgbClr val="1a1a1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09368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98200" y="4375080"/>
            <a:ext cx="501660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22E-3FE7-472F-902B-0E641758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CAD6-8A7A-4B32-93C4-515914A7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FED02-5F17-4617-A5DD-E3F20CFF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FE9B6-7580-4756-9B37-460C59A7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D92C5-5865-49C7-BE7E-EAC57A7E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B0000-FAD8-4202-B382-D4F8CB98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AF1D6-9344-4198-B04C-1A665889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48AAA-519F-437E-97B2-92313723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CE202-AF77-420D-B376-2FF7FF19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5C334-15A7-44E5-B938-1901CD3B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FFB8E-60D1-4E44-B48D-AD4752C3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A65F6-FCEE-4E98-820C-A67080AF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988-F645-46EF-9878-B4552343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BF20F-A1EF-4773-BB17-7DA74FDA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F389F-3802-4C6B-A637-84CE3F12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ED061-2347-4F46-9FCB-95CB748C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4B2C2-9421-4EF4-BDDF-F7E6B192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7F8C4-B284-4692-A997-DB3B0291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8BE3C-808A-404D-B16F-248BC2BF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64424-77DA-4DE4-82EE-5A8EE2EA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56DFF-1905-4191-8CD5-28ABF9CA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77B96-79E2-4A84-AAD1-7521701C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B62BC-E45F-40E2-83F3-D733F813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C12-8AC0-42C5-8418-956083BB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8A293-45AC-4454-B14F-82672505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F74CB-A967-4806-AFBD-42115B8F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2F313-05A3-4335-92AC-6F9520DE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7D929-DA10-43B7-B85E-620B48CC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3903A-31B9-4B9A-AF19-A045F282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FD1A3-E776-420A-9446-CD03FEA3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932E3-C009-4C13-AD21-90B2AD2B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E0BE3-F13E-435D-938F-7AC160FA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6FF64-DB86-468B-821B-E578CF99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E5F10-851C-49B5-80DD-9858954B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421C6-DCC8-437B-A540-7482F947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50930-0709-4FBB-9BB5-77089A06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CD853-B13B-44BB-971D-A1E33E4E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9DDA5-E482-4C68-83B3-F7F0F6FF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CF1FF-F22F-4CF2-8D6A-A05C7432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8E880-F713-4C56-943D-26D37371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E7037-8EDA-4B7E-B48A-D06B11E4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BB877-FF67-449A-BE9E-9F10ACD9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137EB-2D9D-45A6-A69A-10DF9FB5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11CCC-9551-4F5D-B2D2-EA686600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2EC49-EBD1-457B-BAA2-EFEAF435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FE9ED-6405-4C18-BFAD-372FA224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DF6C6-96A0-40E3-A519-7799164D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5F208-E829-4A97-8F43-0790D61C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03540-55FF-4131-8E8B-C9CD8B50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3DBDD-F105-4408-9F4B-5ACE0735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B6B25-E695-4518-8092-60D81207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01E4D-68CA-43B9-9D83-7469E4C2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A3208-65B3-4688-80D7-221F27BF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72D37-62A3-4E4A-861A-1B2D4316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50B16-0D38-4EC5-ADD8-1B157221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6CFEC-FE1A-4A9E-A73C-42B9556E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D20C7-FBCE-4541-9AD1-9614C760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2B33E-5274-4131-8FF8-75520390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33661-4CBA-442D-8A9D-DBF7DA05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53499-56DF-4FB5-9BD6-2FAE2F50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0A60C-36A3-4557-A819-9D42F64E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0A89E-2C57-46E3-8974-49D5E911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0EE29-9CEF-448A-96AC-2AC0D17A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5AD83-E843-4B0E-A0AD-0B9B1C34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ED178-313B-4679-A890-DF740FC8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C25F2-CE22-4AF3-A18C-B2222ECA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920A3-569B-48C8-BF7B-6AED226D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1AE96-5B05-4E8D-9717-09B9E144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F659E-ECD3-4EDD-B044-51E18E20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88F27-5BF2-4886-A01D-5BC4B4E6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E1FE9-0CBB-483D-823D-3DBFBB1C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72987-AF81-41BE-9051-E9D75C8B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9C651-A3E7-4FCB-9492-0AAFE2A8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554BD-E63F-451E-A017-09141FE0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3EECC-1182-4F2D-B7D3-20EE777A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B881A-7245-4784-A681-FF17CDC5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F906A-A5D4-4135-A5E3-208AF82E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D135E-1C27-4A6C-B9C1-FCD94ACB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F0D72-17BC-4874-B393-06D83C4E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B4214-1E75-4ABC-B5AC-DE50959C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C6529-D4B6-49E0-B8D4-CE5B389B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A3FF3-0866-42CB-B76D-8727E1EC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A1F0D-AFB4-4674-8589-74F1BC60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EEE79-D3CA-49FB-A31D-2171C5D6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F3C52-BA9F-4686-9423-29B10052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6D037-B855-41A4-9A25-41D83CC7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DAD70-3498-42C8-A8AC-B58DCDF2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B938C-4793-4511-9BBC-B4973977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09208-482E-460D-A2A9-5C9F7AD0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63296-F5FC-44E2-9065-3C57C334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C8E87-210E-468F-B711-DD15173E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204AE-7115-4E4A-9695-1A4DBE32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DC4-7B1C-4035-934D-B6A51FE0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1D7E1-3162-4F70-A3A3-955C6FA1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C21DE-87DB-493E-B1C0-114F4529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73AF8-18B0-4BC5-8FA7-33BCB4AD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3CE8F-9A41-45E2-9264-5C355C1E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619B8-30DD-4B60-A884-4CA2D530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9FD65-AF67-4134-929F-7FC113E7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B4FD1-D49D-402D-8AA1-042213D7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076E8-51F1-48BC-87E2-3EA8C931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5FC89D-F55D-4024-AE88-5B4DC980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C3E1F-9657-433F-8011-37C5D4BD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EF7EC-3858-4670-94ED-3CE7FA88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65DE9-A084-4DB0-82C9-D19C00E9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A8349-48F3-4C8B-AAC0-98FE6162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91A77-23CA-4A9E-9182-4560D7B7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9316F-A176-4747-880A-9D1E5FFB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9282D-743A-420D-B2CB-5CB292FB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4C148E-FD3E-4734-BDF1-A8F72C1C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285-E0DA-492A-9206-4AA34BF6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163-3394-43CB-96A1-6522C0C0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03B6-D439-441A-8A10-AF2ADA06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4EF-14E3-4813-867D-A8727CE5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7B3A-DCF4-4874-A35E-512CA3E1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DD1C-73E4-4650-8FA1-74D503E5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B449-0438-4779-8582-5E26DCBF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DEE0-09EB-455A-9D25-10D2EB45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A367-5ACD-451D-87DC-BBDD688D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EAE1-BDD5-446B-9449-882EF263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9680-6EAC-40C8-A068-14B72295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2954-02C4-4FFC-832A-2E299C9A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D30F-A9C9-4403-94B8-363D4167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4979-60E0-4025-8B7C-120D5E37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AD24-10C6-44F5-B657-1818EB78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62DF-A1A2-432C-994A-FDC0445E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5A2B-1E73-452E-8333-FCCD4BFF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668AF-7AC7-4F90-ABD6-DDF85A4B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07A6B-BCA6-4876-B2D5-1B772F99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7FF62-C3B5-4DA7-97B3-69D44545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9136F-4845-46A0-A8CD-33EB85CE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F341-ADC7-49BF-9A6F-2F038E2F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D74AC-875E-49F2-BEBF-A3C1602D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24F8-7B72-4BAA-B032-A0E7FC80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D6A26-5024-41E8-8A07-BAB98CE1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074-3837-4F60-8CB8-3DE24B1E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1672-D7A3-437E-B860-6486E55D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45B83-BF2B-49F1-A8B7-7879F594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84F86-C559-42E4-BD0E-6A7E4CB1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0F246-9894-4EFD-9F23-980ED3FA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00D36-3689-4D88-AC01-F724C294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A696D-3CBB-421A-824F-62BD1144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153A5-44AE-4DE9-938C-31E147A3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EF637-0392-4E72-89A6-C89960D3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E6BDC-D096-4C4E-B941-306C1E24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EF4FC-35E2-4D65-9B09-E357423C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567-7918-46E2-9B8D-A6B8EAAC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63F93-AADD-4652-975D-0543159D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FEC4C-14E0-42A9-8A5D-A372DDC3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5BD50-321B-4660-BADB-4C358999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AE242-864E-429D-ADEE-DD83CE65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CB9C4-B54A-4A91-82BA-C7D25290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B65AA-F71A-4AF7-82B1-C05A753D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1268B-2240-401A-A27E-99AE4742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14A06-B547-4B97-8120-6F3914D8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64DA1-3D37-43F5-971C-F0C99FDB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B5C34-A2A3-43E8-A0FB-6C740C93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D84-B497-49EC-A477-79AE15DC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947CB-CB6A-444C-90C9-3BACCCEB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FBCCB-160B-4A8F-BB7A-B4DB22BE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CA319-9F3B-4237-BD14-1DE337F0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C2C06-1ED1-48BE-ACC3-DE870533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24303-D52E-481A-9C59-0BC81FA0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637FC-F219-4225-AF3A-B4D5B9DC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89E74-743F-45E4-A598-CE356E7C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D9DC9-BD1A-4D27-BB9C-03845811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0ED99-D338-4638-B429-5DC60937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736A6-3487-4DA4-829B-3963BF00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www.international-pain-school.org/" TargetMode="Externa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1766-DDE1-4E43-94C2-F6492EF0026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5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0D25-FF22-42EB-9D71-A5ED2202B97E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9281-CA32-43F6-A10E-939E66495F02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7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D5AD-B5DB-40DB-ADC8-338A06448206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8696-113B-43F9-A12A-62AE2F560F94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6BD2-75CB-4F05-A0B7-A58A5988E807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E184-BD6D-44EE-8D9F-8158FBB3CBAF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1107-6667-4027-A7A9-28E872A7C6BC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ounded Rectangle 3"/>
          <p:cNvSpPr/>
          <p:nvPr/>
        </p:nvSpPr>
        <p:spPr>
          <a:xfrm rot="5400000">
            <a:off x="7739280" y="-27720"/>
            <a:ext cx="43524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08C0-27F1-45B0-91B3-2D16B3AD35C8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1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858585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858585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858585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5" name="Rounded Rectangle 2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6" name="TextBox 3"/>
          <p:cNvSpPr/>
          <p:nvPr/>
        </p:nvSpPr>
        <p:spPr>
          <a:xfrm>
            <a:off x="777960" y="4487760"/>
            <a:ext cx="75866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Open Sans"/>
              </a:rPr>
              <a:t>More lectures and further information can be found on our project website.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 u="sng">
                <a:solidFill>
                  <a:srgbClr val="008bcb"/>
                </a:solidFill>
                <a:uFillTx/>
                <a:latin typeface="Open Sans"/>
                <a:hlinkClick r:id="rId2"/>
              </a:rPr>
              <a:t>www.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Open Sans"/>
              </a:rPr>
              <a:t>© 2013 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1a1a1a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1a1a1a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333333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unded Rectangle 3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75F0-D4E0-494C-B2FF-1E84C972F9E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CD7F-BB62-4D7D-8156-73DB3A8A74F8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A55E-EC5C-4859-B887-59ECCE6605C4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9DE0-57D1-428E-BECB-B1C56397387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8AB4-32B8-4874-8835-90D7F508C05E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Integration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can be a part of symptom management from the time of diagnosi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there are no curative options, focus medications and treatments on comfort only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osing of pain medication, such as opioids, has no upper limit-especially at then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reat all aspects of the patient as their greatest suffering may not be from physical pai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Remember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only requires attention to what the patient needs, regular re-assessment, and access to medication.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igh-quality palliative care does not require any high-tech materials or equipmen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one can provide palliative care to those in need, especially at the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45720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Open Sans Semibold"/>
              </a:rPr>
              <a:t>This talk was originally prepared by: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468360" y="1676520"/>
            <a:ext cx="8424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Jamie Laubisch MD &amp; Justin Baker MD</a:t>
            </a:r>
            <a:endParaRPr b="0" lang="en-US" sz="36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Memphis, USA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84360" y="1266840"/>
          <a:ext cx="7696080" cy="4983120"/>
        </p:xfrm>
        <a:graphic>
          <a:graphicData uri="http://schemas.openxmlformats.org/drawingml/2006/table">
            <a:tbl>
              <a:tblPr/>
              <a:tblGrid>
                <a:gridCol w="4260600"/>
                <a:gridCol w="3435480"/>
              </a:tblGrid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ology and pathophysiology of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ilesh Patel, PhD, Keny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of pain &amp;  taking a pain histor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Yohannes Woubished, M.D, Addis Ababa, Ethiop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pharmacology of analgesic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non-pharmacological treatment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Ramani Vijayan, M.D. Kuala Lumpur, Malays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ominique Fletcher, M.D, Garches &amp; Xavier Lassalle, RN, MSF, Paris, Franc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– high treatment technology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arinder Rawal, M.D. PhD, FRCA(Hon), Orebro, Swede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Cancer pain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Barbara Kleinmann, MD, Freiburg, German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cer pain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Doralina Anghelescu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liative Car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-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D, Helsinki &amp; Aki Hietaharju,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.D., Helsinki &amp; Aki Hietaharju, M.D., 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logical aspects of managing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Etleva Gjoni, Germany 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Management Challenge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ebra Gordon, RN, DNP, FAAN, Seattle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Open Sans Semibold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pic>
        <p:nvPicPr>
          <p:cNvPr id="834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54920" cy="33256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919440" y="19810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  <a:ea typeface="Arial"/>
              </a:rPr>
              <a:t>The project is supported by these organizations: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53370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Open Sans"/>
              </a:rPr>
              <a:t>Type in the name of your institution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algn="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76000" y="4149720"/>
            <a:ext cx="680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Open Sans"/>
              </a:rPr>
              <a:t>Type in your name</a:t>
            </a: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476000" y="3284280"/>
            <a:ext cx="680076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Open Sans"/>
              </a:rPr>
              <a:t>Palliative Care</a:t>
            </a:r>
            <a:endParaRPr b="0" lang="en-US" sz="46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pic>
        <p:nvPicPr>
          <p:cNvPr id="797" name="Picture 6" descr="http://1.bp.blogspot.com/_f2I8sVbYok0/TCAm4wO8HrI/AAAAAAAACCQ/w-9D41FN3OQ/s1600/holding+hands.jpg"/>
          <p:cNvPicPr/>
          <p:nvPr/>
        </p:nvPicPr>
        <p:blipFill>
          <a:blip r:embed="rId1"/>
          <a:srcRect l="5915" t="5843" r="6089" b="6326"/>
          <a:stretch/>
        </p:blipFill>
        <p:spPr>
          <a:xfrm>
            <a:off x="-66600" y="0"/>
            <a:ext cx="9210600" cy="6875640"/>
          </a:xfrm>
          <a:prstGeom prst="rect">
            <a:avLst/>
          </a:prstGeom>
          <a:ln w="0">
            <a:noFill/>
          </a:ln>
        </p:spPr>
      </p:pic>
      <p:sp>
        <p:nvSpPr>
          <p:cNvPr id="79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77960" y="2301840"/>
            <a:ext cx="7586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tive total care of the patient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gins at diagnosis, and continues regardless of whether or not a patient receives treatment directed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t the diseas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alth providers must evaluate and alleviate a child's physical, psychological, and social distres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quires a broad interdisciplinary approa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77960" y="1368000"/>
            <a:ext cx="75866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Open Sans Semibold"/>
              </a:rPr>
              <a:t>WHO definition of palliative care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“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art and science of patient and family-centered care aimed at attending to suffering, promoting healing and improving quality of life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”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goal is to add life to the patient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’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 years, not simply years to the their life 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y is it so important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762120" y="114300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e cannot cure or save everyone and we will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ll die someday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resources are limited or unavailable,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 patient should have the benefit of symptom management, especially at the end of lif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Opioids should be available for all patients to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lp alleviate pain and suffering, although not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rrently the cas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does not require high-tech medicine, but may be achieved anywhere with education and dedication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Aspects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rovide comf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Foster interpersonal relationship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u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reavement car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Totality of Personhood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777960" y="5867280"/>
            <a:ext cx="758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Open Sans"/>
              </a:rPr>
              <a:t>Goal: to attend to suffering, of any kind, and improve quality of life</a:t>
            </a:r>
            <a:endParaRPr b="0" lang="en-US" sz="1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3352680" y="3352680"/>
            <a:ext cx="2210040" cy="2210040"/>
          </a:xfrm>
          <a:prstGeom prst="ellipse">
            <a:avLst/>
          </a:prstGeom>
          <a:solidFill>
            <a:srgbClr val="df00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1" name="Oval 3"/>
          <p:cNvSpPr/>
          <p:nvPr/>
        </p:nvSpPr>
        <p:spPr>
          <a:xfrm>
            <a:off x="2514600" y="1905120"/>
            <a:ext cx="2209680" cy="2209680"/>
          </a:xfrm>
          <a:prstGeom prst="ellipse">
            <a:avLst/>
          </a:prstGeom>
          <a:solidFill>
            <a:srgbClr val="604a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4191120" y="1905120"/>
            <a:ext cx="2209680" cy="2209680"/>
          </a:xfrm>
          <a:prstGeom prst="ellipse">
            <a:avLst/>
          </a:prstGeom>
          <a:solidFill>
            <a:srgbClr val="008b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990720" y="1721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lig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990720" y="515016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et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553080" y="17236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lture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6248520" y="515016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ducat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3048120" y="27954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od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4686480" y="27954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Mind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3924360" y="424296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Barriers to High Quality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erson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ly difficult, taboos, resisting chang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ystem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cess to services, reimbursement, fragmentation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Quality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eficient education, lack of outcomes resear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echnic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Lack of appropriate evaluation tool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21:01:03Z</dcterms:created>
  <dc:creator>SJCRH</dc:creator>
  <dc:description/>
  <dc:language>en-US</dc:language>
  <cp:lastModifiedBy>ruth</cp:lastModifiedBy>
  <dcterms:modified xsi:type="dcterms:W3CDTF">2015-06-15T09:50:54Z</dcterms:modified>
  <cp:revision>37</cp:revision>
  <dc:subject/>
  <dc:title>Palliative Care</dc:title>
</cp:coreProperties>
</file>